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410-9012-4F2F-93CC-4EF0131A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FD4-2400-46D9-8139-3176409E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4CD-9EE4-4E7B-8EAD-BAB2106F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F92-A652-45F5-BFA2-A91AA9ED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470-5512-4884-ADF4-DDB6D7F4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8F83-7722-4452-9F9D-DB162B7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7A52-BBE0-4DBF-AD58-78079BA3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9CF4-98B5-4588-83DC-CD6ACA07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8556-353E-4A8B-9086-FFC270E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634-C3A1-4415-83FE-06C4661C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70E9-4A5A-4BD6-B09B-22DDCF55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AAE-4401-4D64-9805-2601F7A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155E-C020-4A22-B40A-F4835938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B9D1-7413-466F-BB4C-B2A9786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92E2-7E9C-4FE0-8BE9-2B287C1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2712-F916-4521-B13B-6EA26366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1EDA-E980-4519-A17D-C029A81D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39B-1DFF-4D39-A0A4-EA7CAA8B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F6A-0BEC-4249-9FD6-FA5AB576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98F-FB40-4AA0-89D7-533F42D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ADB-6B13-40E6-AC83-104A2E49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C90-8AF5-4104-897C-0989C56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141-0109-4CF0-B41A-5470725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FAF-B9F6-410A-A58F-94D1FE34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484D-FBAA-44AA-941A-BBAEA4CB4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96F-E6D0-41A8-8544-1E0A59A5D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Basic Listening Skill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cus on Liste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 to yourself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fore you can be an effective listener you have to ensure you are ready to list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ess your mental, physical and emotional st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you are there to listen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times people in crisis need to talk through their problems, not get advice on how to solve their proble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aren’t sure if the person wants you to “just” listen or give advice ASK them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9298" t="0" r="0" b="0"/>
          <a:stretch/>
        </p:blipFill>
        <p:spPr>
          <a:xfrm>
            <a:off x="7010280" y="0"/>
            <a:ext cx="2133720" cy="201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cus on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ir Concer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the person’s train of thou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oid thinking about your response or other non-related things until the person is finished speak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 distra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re is a distraction (TV, music, someone else in the room) remove the distraction if possible so you can foc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can’t remove the distraction, schedule a time  when you can focus on their concer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8571" t="0" r="0" b="0"/>
          <a:stretch/>
        </p:blipFill>
        <p:spPr>
          <a:xfrm>
            <a:off x="0" y="0"/>
            <a:ext cx="2590920" cy="188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lence &amp; Body Langu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e isn’t ba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always rush to fill in gaps in conversation. These gaps can be important for the individual to gather their thoughts or express themselves emotiona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 with your ey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communicate information through behaviors in addition to what they s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y attention to body language to help understand their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mpat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rain from being judgmen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athy doesn’t mean you agree with the person, just that you have identified and understand how they are feel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omfortable convers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have difficulty keeping your beliefs from interfering with your ability to listen, let the person know the topic is too sensitive for yo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someone else that can list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8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vey You Are Liste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 eye contact when it seems approp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minimal encouragers such as “Uh huh” and “I see” to communicate you are paying att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phrase what the person has said to you and ask questions to fill in gap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ill not only help you understand, but help the person think through their concerns and express their emotions more effective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knowledge that you understand their thoughts as well as their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400800" y="4419720"/>
            <a:ext cx="2743200" cy="1827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with Commun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problems you have understanding the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omething is preventing you from understanding their concerns, don’t be afraid to bring it out in the op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hrases such as “Help me understand” or “Tell me mor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n a confrontational conversation, acknowledge the difficulty to get past the impas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sonal Boundar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Personal Boundaries as an 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aware of your own need for bounda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y attention to situations when you lose energy, feel a knot in your stomach, want to cry or become ang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ignals are ways your mind and body tell you your personal boundaries have been cro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0" r="0" b="17585"/>
          <a:stretch/>
        </p:blipFill>
        <p:spPr>
          <a:xfrm>
            <a:off x="5410080" y="4807080"/>
            <a:ext cx="3733920" cy="20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undary Bill of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have the Right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7440" indent="-48744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treated with resp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7440" indent="-48744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ay NO without feeling gui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7440" indent="-48744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ake a mist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7440" indent="-48744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sk for what you want and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7440" indent="-48744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xpress your feelings and opin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7440" indent="-48744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change your m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7440" indent="-48744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eel good about yourself no matter wha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7440" indent="-487440"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ct in your own best interest as long as you do not violate others in the pro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34320" y="1371600"/>
            <a:ext cx="1981080" cy="183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1:31:21Z</dcterms:created>
  <dc:creator/>
  <dc:description/>
  <dc:language>en-US</dc:language>
  <cp:lastModifiedBy>Guru</cp:lastModifiedBy>
  <dcterms:modified xsi:type="dcterms:W3CDTF">2010-01-08T10:19:20Z</dcterms:modified>
  <cp:revision>0</cp:revision>
  <dc:subject/>
  <dc:title>Basic Listening Skills</dc:title>
</cp:coreProperties>
</file>